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D92-BE8D-45E8-83CB-D9EE327D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E8C-F7F1-4A22-A1BA-78F8E03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EE5-E856-425D-B2AD-EFE85266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931-5669-4C7C-8C2C-7616BF57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610-F250-4D90-8E50-58EAA7B6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09BA9-C3CE-4CA6-BEE6-DE5E518D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5F8ED-6DC6-4F81-A700-22582B8B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75D91-46ED-4282-B2D8-E14250A5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A60B0-C07F-42A7-9C62-5F2AC7B3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61F9D-BE18-4369-B187-FCB5366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46F-6FAF-4F9D-9AC7-AC9A153C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04660-2B7F-46F7-AF8C-115E0A9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CF6B8-0DE2-42F9-8F0F-54039D3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EF956-605D-4937-BC1B-4D39FD7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B8126-7E10-486D-BC0E-28F629A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2128D-7725-4D82-9A94-551C977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82A7D-CB16-45F0-AC6A-D10D2AEC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A6CB1-7FD5-414E-BE06-39F325A1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5C8-56BA-4960-95E2-87099046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281-BA7A-4368-AAD8-7E9A35C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279-9614-452E-974D-86329342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698-A588-4507-A703-3B83DB9E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05E-CF33-49AE-8A06-0D90D2D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9E6-719E-4A32-A8FE-6295350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29676-6134-44EC-BAD1-A165F6C12B2F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D8B38-5616-4D13-A1AF-B83FEAABC12C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CF678-97C2-473C-A52F-656BCF47FA12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08D95-DEEB-4131-8516-94D96F44B117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B72C4-FC25-44FD-81B8-CF4478BE1711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73A80-23BF-47F6-80DF-6D0DA0E988E7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00509-030E-4BF1-837F-A516E883F8EF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46990-FFAC-42F9-93A1-77524D2508F2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history.co.uk/year9links/industrial/population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 Condensed"/>
              </a:rPr>
              <a:t>Industrial Revolu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Mr. Rush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Go Muskies!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262" name="Picture 3" descr="j0198352.pict"/>
          <p:cNvPicPr/>
          <p:nvPr/>
        </p:nvPicPr>
        <p:blipFill>
          <a:blip r:embed="rId1"/>
          <a:stretch/>
        </p:blipFill>
        <p:spPr>
          <a:xfrm>
            <a:off x="1254240" y="3833640"/>
            <a:ext cx="2311200" cy="2362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j0234645.pict"/>
          <p:cNvPicPr/>
          <p:nvPr/>
        </p:nvPicPr>
        <p:blipFill>
          <a:blip r:embed="rId2"/>
          <a:stretch/>
        </p:blipFill>
        <p:spPr>
          <a:xfrm>
            <a:off x="4200480" y="4138560"/>
            <a:ext cx="1498680" cy="1549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j0199128.pict"/>
          <p:cNvPicPr/>
          <p:nvPr/>
        </p:nvPicPr>
        <p:blipFill>
          <a:blip r:embed="rId3"/>
          <a:stretch/>
        </p:blipFill>
        <p:spPr>
          <a:xfrm>
            <a:off x="5959440" y="4138560"/>
            <a:ext cx="19940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oda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20320" y="2017800"/>
            <a:ext cx="3565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What we will do toda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20320" y="306504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nticipation Guide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hy Great Britai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hart Industrial Revolu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565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Objectiv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8360" y="3065040"/>
            <a:ext cx="35654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entury Gothic"/>
              </a:rPr>
              <a:t>Explain the causes and effects of the Industrial Revolution with emphasis on:</a:t>
            </a: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entury Gothic"/>
              </a:rPr>
              <a:t>How scientific and technological changes promoted industrialization in the textile industry in England; </a:t>
            </a: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entury Gothic"/>
              </a:rPr>
              <a:t>The impact of the growth of population, rural-to-urban migrations, growth of industrial cities, and emigration out of Europe; </a:t>
            </a: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entury Gothic"/>
              </a:rPr>
              <a:t>Directions:  Place a check by those you think that are true.  Then, read pages 235-247 and write down the page, paragraph and part of the sentence where you found the answer. </a:t>
            </a:r>
            <a:endParaRPr b="0" lang="en-US" sz="32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14560" y="2562120"/>
            <a:ext cx="7610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   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 1.  Britain was the first place where the Industrial Revolution began.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 2.  Jethro Tull was the first to invent the cotton gin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_ 3.  During the Industrial Revolution, electricity was first used to power factorie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__ 4.  More and more people moved to the cities because farming technology improved.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 5.  The Industrial Revolution significantly improved the lives of the peopl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oda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20320" y="2017800"/>
            <a:ext cx="3565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What we will do toda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20320" y="306504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nticipation Guide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hy Great Britai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hart Industrial Revolu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565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Objectiv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347800" y="289512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Interpret data to make comparisons between and among countries and regions including: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Birth rate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Death rate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Infant mortality rate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Education level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Per capita Gross Domestic Product (GDP). This cell was part of People in societies 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ndustrial Revolution Char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o to this website: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how how things changed over time with the Industrial Revolutio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s about the Industrial Revolutio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a440"/>
                </a:solidFill>
                <a:uFillTx/>
                <a:latin typeface="Century Gothic"/>
                <a:hlinkClick r:id="rId1"/>
              </a:rPr>
              <a:t>http://www.schoolhistory.co.uk/year9links/industrial/population.pdf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oda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20320" y="2017800"/>
            <a:ext cx="3565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What we will do toda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20320" y="306504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llins- Most Important Inven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hat was the most important Invention during the Industrial Revolu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565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Objectiv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148360" y="3065040"/>
            <a:ext cx="35654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Explain the causes and effects of the Industrial Revolution with emphasis on: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How scientific and technological changes promoted industrialization in the textile industry in England; 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The impact of the growth of population, rural-to-urban migrations, growth of industrial cities, and emigration out of Europe; 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Compare how different economic systems answer the fundamental questions of what goods and services to produce, how to produce them and who will consume them.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What is the most important technology you have in your life?  Why is this the most important? How different would your life be if you did not have this technology?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10-15 lines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 what is the most important technolog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wh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2 ways your life would be different 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Discussio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kim Technologi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244-248 in your book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Which is the most important?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 Collins part 2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What is the most important invention of the Industrial Revolution?  Why ? How different would your life be if you did not have this technology?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10-15 lines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 what is the most important technolog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wh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2 ways your life would be different 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 Industrial Revolu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Discus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entury Gothic"/>
              </a:rPr>
              <a:t>Why Great Britain started the Industrial Revolu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entury Gothic"/>
              </a:rPr>
              <a:t>Exploration and Colonization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- Colonies provide raw materials (wood, cotton, etc.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Seapowe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r-Most powerful navy- could get supplies from around the world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Political Stability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- country mostly at peac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overnment Support-pass laws to help businesse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entury Gothic"/>
              </a:rPr>
              <a:t>Growth of Private Investments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- spend $ on  research and development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 Condensed"/>
              </a:rPr>
              <a:t>Industrial Revolu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Mr. Rush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Go Muskies!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284" name="Picture 3" descr="j0198352.pict"/>
          <p:cNvPicPr/>
          <p:nvPr/>
        </p:nvPicPr>
        <p:blipFill>
          <a:blip r:embed="rId1"/>
          <a:stretch/>
        </p:blipFill>
        <p:spPr>
          <a:xfrm>
            <a:off x="1254240" y="3833640"/>
            <a:ext cx="2311200" cy="2362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j0234645.pict"/>
          <p:cNvPicPr/>
          <p:nvPr/>
        </p:nvPicPr>
        <p:blipFill>
          <a:blip r:embed="rId2"/>
          <a:stretch/>
        </p:blipFill>
        <p:spPr>
          <a:xfrm>
            <a:off x="4200480" y="4138560"/>
            <a:ext cx="1498680" cy="1549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j0199128.pict"/>
          <p:cNvPicPr/>
          <p:nvPr/>
        </p:nvPicPr>
        <p:blipFill>
          <a:blip r:embed="rId3"/>
          <a:stretch/>
        </p:blipFill>
        <p:spPr>
          <a:xfrm>
            <a:off x="5959440" y="4138560"/>
            <a:ext cx="19940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32:53Z</dcterms:created>
  <dc:creator>Craig Rush</dc:creator>
  <dc:description/>
  <dc:language>en-US</dc:language>
  <cp:lastModifiedBy>Craig Rush</cp:lastModifiedBy>
  <dcterms:modified xsi:type="dcterms:W3CDTF">2011-10-02T18:24:24Z</dcterms:modified>
  <cp:revision>8</cp:revision>
  <dc:subject/>
  <dc:title>Industrial Revolution</dc:title>
</cp:coreProperties>
</file>